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CE6-FEA9-4DE1-A6C8-6A263E29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EB5-530D-40C2-B901-BEE27386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C9A-3855-4A62-8826-B85B76C5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1EB-5C87-45C2-9934-3C2C48A2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CE1-B2DC-45DA-9E2F-4BCA48DA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52B-9725-49E2-8EC7-DB84CA72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44A-AE57-43C0-959B-92660471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55C-4A15-48DA-B72C-20DB1405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2EA-E038-4F61-AA4B-83F38005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D65-1FA6-499B-8DC5-BA31D092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B64-9A8A-4456-BFD3-CC3F7C02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7A3-5656-43BA-A468-9873E2FA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819F-9524-4E64-B981-66D44375B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25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424720" cy="5084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3640" y="33336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OAD saf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 careful! Dangerous turns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010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LOW THE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978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FIC LIGHTS!!!!!!!!!!!!!!!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691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RIVE AROUND THE CIRC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85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P!!!!!!!!!!!!!!!!!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551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LP THE DISABLED!!!!!!!!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360" y="242100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2:14:32Z</dcterms:created>
  <dc:creator>user</dc:creator>
  <dc:description/>
  <dc:language>en-US</dc:language>
  <cp:lastModifiedBy>user</cp:lastModifiedBy>
  <dcterms:modified xsi:type="dcterms:W3CDTF">2013-04-09T12:38:06Z</dcterms:modified>
  <cp:revision>3</cp:revision>
  <dc:subject/>
  <dc:title>ROAD safety </dc:title>
</cp:coreProperties>
</file>